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C962-8E89-4EA7-8340-E9BA58546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E1F7-9180-4E58-BB33-5AD911D17A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8629-265C-4B01-8922-43D01AEF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823-38B6-48A2-9970-F59157B7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223-57F6-4648-A249-987A20C1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3E36-C0B1-4938-81B6-B1BACD29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9451-24AF-458F-A68C-BBE6FC9A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1512-287A-4804-A6AF-BB84A0CA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E798-B1A5-4C2A-ADB0-F2A1BD61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5EAC-B8F8-48A0-BF90-A11A0644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1A2E-A27B-491E-9C96-49EB1BB0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9BCF-7804-4137-83FB-3B26231C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D170-704E-48DE-8E7D-8544A770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4D7-0329-45E9-BD3A-B25FDEE9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18FD-5814-4917-AB28-5338CE2B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7212-504D-4910-B7AB-5EE06592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2406-84F1-4F5A-A3E9-AE41E418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93BB-8949-44AD-B65D-3AD84E2A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0659-C574-4DA8-BE31-9B0729CB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D79EF-D453-41BD-BA6B-151F1D29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10121-CFFB-46A3-8124-63516863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92635-1291-49A9-AED2-0F3720AD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6C82F-2070-4417-AE93-CBF80792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A4361-896A-4850-B6F0-37335A12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3D4-02C1-4023-B2F0-78879EE8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F4B28-6B71-4C86-9448-D50A0F67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8AEC6-DB06-4567-94B1-679391DC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E297E-CFAE-4C87-B5EF-48D2495F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C4569-FFFC-430D-B527-D12362AA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0344D-18A9-4F55-8D74-A4940F2F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984FD-D25D-4F89-A450-9EBE6586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5564A-A040-4612-B6BE-001C6301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C6C74-6A3A-4FE5-8B45-3744A2C8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EBE7B-0563-4CA3-8F44-AD1DD0EE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F4EE7-DCCD-4503-BB1B-AC1182FC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384-A37B-44EF-A4E7-31BBF34B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A0016-AA01-4252-BFBB-639E54BB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A6079-CC79-4137-894E-C3E8E84B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FC105-F553-444B-891D-4591A812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3F2EE-8BBE-47E1-8B73-8CB60AEC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BCA51-9087-4D9B-92B7-26592AA5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5440A-274D-439E-87AD-DF01B0CF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AE614-B873-4D63-87F5-BB38B245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5DA45-A6CD-4115-B95C-F9B470EC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F015F-C489-4365-B82F-2EC859C1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B72-DA8F-4B90-B733-21EE08F3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E6A2-523E-4B49-A748-058D1787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F977-BF7E-46AE-9CAF-5B2179A8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C56D-4169-429A-9A5F-FCBAA606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31C6-1B5F-4376-9BC6-C5575BED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F1BA-D09D-4511-95F3-8C15162E093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48" name="Freeform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F61F-C369-414A-911E-5C7438DF107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F15E-F1B3-4E85-A0BC-FBE820D0AF2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8DCE-9BBF-4351-AE5D-9E1883BC377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9162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PULATION GENETICS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 u="sng">
                <a:solidFill>
                  <a:srgbClr val="000000"/>
                </a:solidFill>
                <a:uFillTx/>
                <a:latin typeface="Arial"/>
              </a:rPr>
              <a:t>ABO system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18840" y="2124000"/>
            <a:ext cx="3917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our count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A-4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-3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-16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B-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7560" y="2124000"/>
            <a:ext cx="3917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In Europ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ff"/>
                </a:solidFill>
                <a:latin typeface="Arial Narrow"/>
              </a:rPr>
              <a:t>А </a:t>
            </a:r>
            <a:r>
              <a:rPr b="1" i="1" lang="en-US" sz="2800" spc="-1" strike="noStrike">
                <a:solidFill>
                  <a:srgbClr val="0000ff"/>
                </a:solidFill>
                <a:latin typeface="Arial Narrow"/>
              </a:rPr>
              <a:t>blood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bia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-4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ance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-30-3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gland-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25-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otland-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 20-2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celand-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15-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Quantitative vs Qualitative - Tales from the Genome - YouTube"/>
          <p:cNvPicPr/>
          <p:nvPr/>
        </p:nvPicPr>
        <p:blipFill>
          <a:blip r:embed="rId1"/>
          <a:stretch/>
        </p:blipFill>
        <p:spPr>
          <a:xfrm>
            <a:off x="1619280" y="2133720"/>
            <a:ext cx="54561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Biochemical characteristics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electrophoresis, it has been shown that in huma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% of genes are polymor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% of genes are monomor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7% are found in a heterozygous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romosomal polymorphism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changes in the structure of chromosomes th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 not have pathological consequences for the carrier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changes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the centromere re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of the Y chromos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and presence of satellites on acrocentric chromos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ile sites (exception is fragile X syndro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mosome inversions (according to some autho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3640" y="958680"/>
            <a:ext cx="8893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Hardy-Weinberg rule is th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undation of population genetic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4000" y="24681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mathematician Hardy and German physician Weinberg (190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opulation there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 allele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 allele 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ly in individuals of both se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5600" spc="-1" strike="noStrike">
              <a:solidFill>
                <a:srgbClr val="4ce4a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Chapter 25 Population Genetics Flashcards | Quizlet"/>
          <p:cNvPicPr/>
          <p:nvPr/>
        </p:nvPicPr>
        <p:blipFill>
          <a:blip r:embed="rId1"/>
          <a:srcRect l="0" t="0" r="0" b="5919"/>
          <a:stretch/>
        </p:blipFill>
        <p:spPr>
          <a:xfrm>
            <a:off x="766800" y="623880"/>
            <a:ext cx="729936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requencies of gene alleles and genotypes in the population</a:t>
            </a: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27" name="Picture 35" descr="Image result for hardy weinberg images"/>
          <p:cNvPicPr/>
          <p:nvPr/>
        </p:nvPicPr>
        <p:blipFill>
          <a:blip r:embed="rId1"/>
          <a:stretch/>
        </p:blipFill>
        <p:spPr>
          <a:xfrm>
            <a:off x="2125800" y="2637000"/>
            <a:ext cx="4968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8000" y="595080"/>
            <a:ext cx="59040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Arial"/>
              </a:rPr>
              <a:t>Hardy-Weinberg rule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920" y="1773000"/>
            <a:ext cx="864216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sr-R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АА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2pq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sr-Latn-C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2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 (100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р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opulation maintains its genetic structure (equilibrium) when transitioning from one generation to anothe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requency of genotypes in the offspring generation depends on the frequency of gene alleles in the parental gener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Image result for hardy weinberg images"/>
          <p:cNvPicPr/>
          <p:nvPr/>
        </p:nvPicPr>
        <p:blipFill>
          <a:blip r:embed="rId1"/>
          <a:stretch/>
        </p:blipFill>
        <p:spPr>
          <a:xfrm>
            <a:off x="7516800" y="0"/>
            <a:ext cx="16416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54720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requency of heterozygotes (2pq) in the population at equilibrium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920" y="2060280"/>
            <a:ext cx="446544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is 0.5 or 5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greater than the frequency of one homozygote, but it is never greater than the sum of homozygotes (2pq ≤ p^2 + q^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is when the frequency of allele A (p) is equal to the frequency of allele a (q) (p=q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Image result for hardy weinberg images"/>
          <p:cNvPicPr/>
          <p:nvPr/>
        </p:nvPicPr>
        <p:blipFill>
          <a:blip r:embed="rId1"/>
          <a:stretch/>
        </p:blipFill>
        <p:spPr>
          <a:xfrm>
            <a:off x="5148360" y="2276640"/>
            <a:ext cx="3914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order for the population to maintain its genetic structure (equilibrium)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5280" y="249228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llowing conditions need to be satisfied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no mig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opulation remains in panmix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no mut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Title 1" descr=""/>
          <p:cNvPicPr/>
          <p:nvPr/>
        </p:nvPicPr>
        <p:blipFill>
          <a:blip r:embed="rId1"/>
          <a:stretch/>
        </p:blipFill>
        <p:spPr>
          <a:xfrm>
            <a:off x="965160" y="698400"/>
            <a:ext cx="7785000" cy="9781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26920" y="2001960"/>
            <a:ext cx="7126560" cy="1944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Population genetics is the study of the </a:t>
            </a:r>
            <a:r>
              <a:rPr b="1" lang="sr-Latn-RS" sz="2200" spc="-1" strike="noStrike">
                <a:solidFill>
                  <a:srgbClr val="000000"/>
                </a:solidFill>
                <a:latin typeface="Arial"/>
              </a:rPr>
              <a:t>genetic composition (diversity) of populations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, including distributions and changes in genotype and phenotype frequency in response to the processes of natural selection, genetic drift, mutation and gene flow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2" descr="Population Genetics: When Darwin Met Mendel Crash Course Biology #18 |  Population Genetics And Evolution | onad.gov.cv"/>
          <p:cNvPicPr/>
          <p:nvPr/>
        </p:nvPicPr>
        <p:blipFill>
          <a:blip r:embed="rId2"/>
          <a:stretch/>
        </p:blipFill>
        <p:spPr>
          <a:xfrm>
            <a:off x="971640" y="3784680"/>
            <a:ext cx="4051080" cy="3038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Applications Of Population Genetics In Agriculture And Medicine -  FasterCapital"/>
          <p:cNvPicPr/>
          <p:nvPr/>
        </p:nvPicPr>
        <p:blipFill>
          <a:blip r:embed="rId3"/>
          <a:srcRect l="0" t="12306" r="0" b="0"/>
          <a:stretch/>
        </p:blipFill>
        <p:spPr>
          <a:xfrm>
            <a:off x="5180040" y="4653000"/>
            <a:ext cx="328140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Panmixia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iffers from random m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mating is the probability that an individual of one sex has a chance of being fertilized by an individual of the other sex in which the observed trait is expressed in the same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nmixia, in addition to random mating, it is necessary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Each type of crossbreeding produces the same number of offsp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The sex ratio in the population is 1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The population is infinitely lar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e are two types of deviations from random mating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Assortative mating of geno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Positive (inbreeding)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who are more closely related than the average pair of individuals in that pop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Negative (outbreeding)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who are less closely related than the average pair of individuals in that pop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Assortative mating of pheno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Positive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in which the observed trait is expressed in a similar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Negative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in which the observed trait is expressed in different way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 population consistently maintained its genetic structure, there would be no evolution.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3320" y="2637000"/>
            <a:ext cx="8640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Arial"/>
              </a:rPr>
              <a:t>Evolutionary factors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tors that disrupt the genetic structure of a population are: 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Arial"/>
              </a:rPr>
              <a:t>systematic and non-systematic fac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Arial"/>
              </a:rPr>
              <a:t>Selection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Arial"/>
              </a:rPr>
              <a:t>Mutations, migrations, genetic drift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n-systematic evolutionary fac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Natural selection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the favoritism or elimination of genes or genotypes due to differential fertility or differential survival of individu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reproductive capacity of individuals -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adaptive value (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gree of reduction in relative reproductive capacity is the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selection coefficient (S</a:t>
            </a:r>
            <a:r>
              <a:rPr b="0" lang="sr-Latn-CS" sz="2400" spc="-1" strike="noStrike">
                <a:solidFill>
                  <a:srgbClr val="04617b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cc0099"/>
                </a:solidFill>
                <a:latin typeface="Arial"/>
              </a:rPr>
              <a:t>W+S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ion of harmful dominant gen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94920" y="206028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fast because 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it acts on both homozygotes and heterozygotes simultaneous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mful dominant gene can b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completely penetrant, preventing reproduction of all carr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it will be eliminated in that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partially penetrant, preventing reproduction of some individuals (partial select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ontinuously maintained in the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ion of harmful recessive gen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slow 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 acts only on recessive homozyg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fferentiate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Selection against homozygotes in favor of heterozyg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Selection against heterozygotes in favor of homozyg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lection against homozygotes in favor of heterozygote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ickle cell anemia, thalassemia, G6PD de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le cell an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- HbS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-H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s-HbA and HbS (has a selective advantage in malaria-endemic region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ion against heterozygotes in favor of homozygot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2565000"/>
            <a:ext cx="8712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Rh fact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     Dd x d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1   Dd, Dd, dd, d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 the body of Rh-negative mothers, Rh-negative fetuses have a natural selective advanta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7280" y="53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igration, immigration, and emigration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349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ensure gene f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the change in genetic structure depends on the extent of gene flow and the genetic differences between two popul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exchanging genes, populations become more similar in their genetic 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way for new genes to appear in the pop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Mutations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2060280"/>
            <a:ext cx="8445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erm mutations are passed on to offspring from generation to gene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5-20% of conceived zygotes end up as spontaneous abor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0% of spontaneous abortions occur due to chromosomal aber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1" descr=""/>
          <p:cNvPicPr/>
          <p:nvPr/>
        </p:nvPicPr>
        <p:blipFill>
          <a:blip r:embed="rId1"/>
          <a:stretch/>
        </p:blipFill>
        <p:spPr>
          <a:xfrm>
            <a:off x="546120" y="1054080"/>
            <a:ext cx="7785000" cy="952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2205000"/>
            <a:ext cx="7772400" cy="209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2529"/>
                </a:solidFill>
                <a:latin typeface="Open Sans"/>
              </a:rPr>
              <a:t>Population</a:t>
            </a:r>
            <a:r>
              <a:rPr b="0" lang="en-US" sz="2200" spc="-1" strike="noStrike">
                <a:solidFill>
                  <a:srgbClr val="212529"/>
                </a:solidFill>
                <a:latin typeface="Open Sans"/>
              </a:rPr>
              <a:t>: group of individuals of one species, living in a prescribed geographical are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2529"/>
                </a:solidFill>
                <a:latin typeface="Open Sans"/>
              </a:rPr>
              <a:t>Subpopulation</a:t>
            </a:r>
            <a:r>
              <a:rPr b="0" lang="en-US" sz="2200" spc="-1" strike="noStrike">
                <a:solidFill>
                  <a:srgbClr val="212529"/>
                </a:solidFill>
                <a:latin typeface="Open Sans"/>
              </a:rPr>
              <a:t>: localized, distinct breeding grou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2529"/>
                </a:solidFill>
                <a:latin typeface="Open Sans"/>
              </a:rPr>
              <a:t>Gene pool</a:t>
            </a:r>
            <a:r>
              <a:rPr b="0" lang="en-US" sz="2200" spc="-1" strike="noStrike">
                <a:solidFill>
                  <a:srgbClr val="212529"/>
                </a:solidFill>
                <a:latin typeface="Open Sans"/>
              </a:rPr>
              <a:t>: collection of all gene forms (alleles) in a pop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population genetics genotype versus gene pool vector infographic 35209893  Vector Art at Vecteezy"/>
          <p:cNvPicPr/>
          <p:nvPr/>
        </p:nvPicPr>
        <p:blipFill>
          <a:blip r:embed="rId2"/>
          <a:stretch/>
        </p:blipFill>
        <p:spPr>
          <a:xfrm>
            <a:off x="1908000" y="4141800"/>
            <a:ext cx="47880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enetic drift – random genetic drift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846080"/>
            <a:ext cx="8424720" cy="41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 in the frequency of gene alleles in a population can also be a result of chan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can occur in two way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Arial"/>
              </a:rPr>
              <a:t>By creating isol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Arial"/>
              </a:rPr>
              <a:t>By losing a low-frequency gene allele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in oogenesis, a low-frequency allele is randomly distributed in a oocyte and is lost from the popul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populations - inhabitants of a village, a city, a street...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95280" y="1915920"/>
            <a:ext cx="80661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pecies is divided into a large number of natural populations, and the largest population groups are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human races (Negroids, Caucasoids, and Mongoloid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race is a group of historically related people with a common gene p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t includes a smaller or larger number of local popul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has been assumed that races arose solely due to geographical isolation, and that other factors have influenced them - selection, genetic drift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520560" y="1371600"/>
            <a:ext cx="7874280" cy="18795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68000" y="3645000"/>
            <a:ext cx="78534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457200" indent="-45720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polymorph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constantly mov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continuously interacting with environmental facto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enetic burdens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burdens represent mutations, most commonly recessive ones, that decrease the relative reproductive capacity of individu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of the most well-known genetic burdens is inbree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here are two approaches: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78920" y="1935000"/>
            <a:ext cx="87138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rou (1958)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burdens are the degree of reduction in the adaptive value of the average genotype compared to the best genoty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bzhansky (1964)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s whose adaptive value is below the established average for heterozygotes represent carriers of genetic burde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breeding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400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in close kinship have a greater number of identical ge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efficient of inbreeding is calculated by the formu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=(1/2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- degree of kinship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probability that certain genes will be found in a homozygous state, which originate from a common ances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riage within kinship -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consangui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1136160"/>
            <a:ext cx="54882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9280" y="1484280"/>
            <a:ext cx="826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breeding reduces the relative reproductive capacity of individu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win's experiment (1876) - for 8 generations, the number of offspring decreased by 3 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ats - % of sterile crosses 41%, litter size decreased from 7 to 3 offspring, mortality up to 4 weeks 45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rriages within kinship, there is a 40% increased stillbirth rate of children, and the number of children with hereditary malformations is 30% hig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riage within kinship among first cousin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4000" y="2708280"/>
            <a:ext cx="792612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on and colleagues (1956) f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nital defects are more common by about 4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births by about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onatal mortality by about 3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ality before adulthood is 100% hig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ient Greeks, Egyptians, and J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tholic Church and laws in some countries allow marriage up to the fourth degree of ki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law allows marriage up to the sixth degree of ki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isolation may be a reason for increased frequency of marriages within ki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pulation is a group of individuals of the same species that inhabit a specific habitat at a specific time and can engage in reproductive inter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5" descr="Population genetics | Broad Institute"/>
          <p:cNvPicPr/>
          <p:nvPr/>
        </p:nvPicPr>
        <p:blipFill>
          <a:blip r:embed="rId1"/>
          <a:stretch/>
        </p:blipFill>
        <p:spPr>
          <a:xfrm>
            <a:off x="3062160" y="4292640"/>
            <a:ext cx="301968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e1e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gree of kinshi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shared gen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ability of homozygosit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-degree relativ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s-childr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bling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zygotic twi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-degree relativ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nts, uncl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phews, nie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f-sibling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-degree relativ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usi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ren of aunts and uncl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82000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termining the allele frequency in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onogenically determined trait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8920" y="2421000"/>
            <a:ext cx="86979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the Hardy-Weinberg equ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(AA) + 2pq (Aa) + q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(aa</a:t>
            </a: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1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10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p + q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Determining the frequency of </a:t>
            </a: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codominant alleles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56576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the MN blood group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contains 3 blood grou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3080" y="2997360"/>
          <a:ext cx="9070920" cy="3247920"/>
        </p:xfrm>
        <a:graphic>
          <a:graphicData uri="http://schemas.openxmlformats.org/drawingml/2006/table">
            <a:tbl>
              <a:tblPr/>
              <a:tblGrid>
                <a:gridCol w="2266920"/>
                <a:gridCol w="1643040"/>
                <a:gridCol w="1630440"/>
                <a:gridCol w="1631880"/>
                <a:gridCol w="1898640"/>
              </a:tblGrid>
              <a:tr h="92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henotype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Genotype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 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sr-Latn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individual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Rectangle 4"/>
          <p:cNvSpPr/>
          <p:nvPr/>
        </p:nvSpPr>
        <p:spPr>
          <a:xfrm>
            <a:off x="2556000" y="6237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+ B + C = 1 (100%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quency of codominant alleles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79280" y="1600200"/>
            <a:ext cx="896472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sr-CS" sz="3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A +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 number of individuals with M blood type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umber of individuals with MN blood typ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umber of individuals with N blood typ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C + B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um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1568520" y="25178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1531800" y="4237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250920" y="1773360"/>
            <a:ext cx="3240000" cy="1368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246240" y="3203640"/>
            <a:ext cx="3313080" cy="1584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Determining the frequency of </a:t>
            </a: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multiple alleles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BO blood group syst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A allele (IA) = 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B allele (IB) = 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O allele (IO) = 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 + q  + r = 1 (10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5200" y="5490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In one population: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78920" y="2492280"/>
            <a:ext cx="8425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А + АО +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B + BO + AB +OO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%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A       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B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AB 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O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heno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pr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q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2p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 (10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507960" y="203688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cy of blood group A 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p^2 + 2p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cy of blood group B 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q^2 + 2q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cy of blood group AB 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2p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cy of blood group O 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r^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9760" y="549000"/>
            <a:ext cx="848988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equencies of multiple allele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, p, q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1588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= √ 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= 1- √ B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= 1- √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1692360" y="1916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5"/>
          <p:cNvSpPr/>
          <p:nvPr/>
        </p:nvSpPr>
        <p:spPr>
          <a:xfrm>
            <a:off x="2035080" y="198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3716280" y="357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7"/>
          <p:cNvSpPr/>
          <p:nvPr/>
        </p:nvSpPr>
        <p:spPr>
          <a:xfrm>
            <a:off x="2763720" y="357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8"/>
          <p:cNvSpPr/>
          <p:nvPr/>
        </p:nvSpPr>
        <p:spPr>
          <a:xfrm>
            <a:off x="3817800" y="5084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9"/>
          <p:cNvSpPr/>
          <p:nvPr/>
        </p:nvSpPr>
        <p:spPr>
          <a:xfrm>
            <a:off x="2809800" y="506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0"/>
          <p:cNvSpPr/>
          <p:nvPr/>
        </p:nvSpPr>
        <p:spPr>
          <a:xfrm>
            <a:off x="2492280" y="3500280"/>
            <a:ext cx="213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1"/>
          <p:cNvSpPr/>
          <p:nvPr/>
        </p:nvSpPr>
        <p:spPr>
          <a:xfrm>
            <a:off x="2606760" y="49276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 structure of the population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79520" y="2276640"/>
            <a:ext cx="842472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nge in the genetic structure of the population is a result of adaptation to new environmental condi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hanges are studied over time, it's called evolutionary population gene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hanges are studied in terms of space, it's called ecological population gene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tic structure of the population consist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traits of individuals in th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ative traits of individuals in th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chemical characteristics of individuals in th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al polymorph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748720" cy="11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Quantitative properties -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 be represented on a quantitative scale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genic tra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expression is influenced by environmental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vary widely, so overlapping in expression is observed (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there is no alternative trait, can take on any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, weight, cholesterol level, blood pressure, skin colo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5" descr="Qualitative and Quantitative traits - ppt video online download"/>
          <p:cNvPicPr/>
          <p:nvPr/>
        </p:nvPicPr>
        <p:blipFill>
          <a:blip r:embed="rId1"/>
          <a:srcRect l="22110" t="35742" r="23097" b="13071"/>
          <a:stretch/>
        </p:blipFill>
        <p:spPr>
          <a:xfrm>
            <a:off x="2916360" y="5140440"/>
            <a:ext cx="24476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traits achieve 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a cumulative e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kin color - AAbb: darkest black, aabb: lightest white, AaBB, AABb: black, AaBb: mulatto, Aabb, aaBb: wh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Qualitative properties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genic traits are determ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expression is not influenced by environmental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vary in ex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MN, ABO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Microsoft Office User</cp:lastModifiedBy>
  <dcterms:modified xsi:type="dcterms:W3CDTF">2024-06-05T08:01:23Z</dcterms:modified>
  <cp:revision>200</cp:revision>
  <dc:subject/>
  <dc:title>MUTACIJE GENA</dc:title>
</cp:coreProperties>
</file>