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AE5F-8CDA-4B74-9AE8-E88286D10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424F-415A-4FB4-B40A-81E74D5FAE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D4A2-4C7D-4B69-9DE5-02E8B9DBA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9769-F044-470C-BE10-92775457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528F-B83D-4D69-AB27-730AB5FF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B88B-D2A4-4A8E-8053-B48342C7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0089-69E6-4EF3-8BC8-8E643BCA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9EAD-FDA5-49D6-A7D0-71D4E1EA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4242-14F0-42E0-A683-89CFD4A8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34D2-804F-4915-92C4-CB9DBEA4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105A-38BB-4400-92F0-AE0C7BFB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965A-A492-4059-8159-8EC702D5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7061-579B-44A7-A077-B7E807BE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AD56-9F6B-444A-9E06-E304F663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E7AC-1951-4687-A072-66B777BC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207B-07E7-4611-8257-740789BE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9FE3-0E6D-4B21-8949-3FB657BC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4993-7E09-4A0A-B4C6-FFDC14F1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0A89-FC88-459B-80A3-84990070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9DE46-96CF-4DA9-BBC7-ABA94E9C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95AFD-8F3C-4429-9A94-F20251D2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E0FD3-1BEB-463F-927A-641FBB0F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7524D-8E63-440A-841B-56424817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22E18-4F9C-4180-9810-FA7070A6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DD92-CA1B-4152-9D72-1E1804D8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0DDAD-1A27-46DD-91A6-BF7A6DA8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BF05D-9318-48BB-9518-39E5722D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22DB4-6E10-4C09-8FD6-88880FBE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0135F-F741-4366-84F3-C568485E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313A4-6D2B-4880-B2A9-22C29760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D0F08-F989-4935-B0F9-15EC6B2A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3756A-2C03-4262-8AF6-742480E8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B849B-6239-470E-BDF1-69702D13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F6622-551E-4ECC-9A13-B55E8F2C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F77A7-315D-482D-8342-6C9B6034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2B52-9E9F-4CAE-BE23-701D2E95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87346-8E8E-49FF-B713-CC3339C0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1F521-BECD-4405-82D9-05881366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23745-8A20-46F0-93EC-23D60AF5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A2A66-7FBB-4B29-AF82-31E0A56D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95012-16E9-471D-A5EA-79F8D7A6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23167-22F5-4B9A-A4A4-0727FB56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1B635-ABDD-4B14-9681-8385BF5C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75DA9-443D-43B6-8720-CEB8ACF4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935B0-7402-4274-B26F-985E9817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EFD8-2677-4D3C-9BCB-4E76076D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488C-E85D-451A-A6D5-0A475E3B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A9E7-A1A1-4713-9FF3-6F2C0312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344F-F8B3-420F-8ADA-E6F5A463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16B5-89C6-443E-BDB3-EBD408A9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B94A-F6E8-4AFE-BC1B-BE9EC3EC355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Freeform 9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4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Freeform 10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4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5381-75D8-4349-9DEB-906B2DE3CA0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9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9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0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9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064B-AC82-485B-A8C4-57195935B14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039F-0261-4A87-8FFE-73B732DB861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ecec0c"/>
                </a:solidFill>
                <a:latin typeface="Arial"/>
              </a:rPr>
              <a:t>15. </a:t>
            </a:r>
            <a:r>
              <a:rPr b="1" lang="en-US" sz="4600" spc="-1" strike="noStrike">
                <a:solidFill>
                  <a:srgbClr val="ecec0c"/>
                </a:solidFill>
                <a:latin typeface="Arial"/>
              </a:rPr>
              <a:t> Population Genetics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Biochemical characteristics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electrophoresis, it has been shown that in huma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% of genes are polymorph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% of genes are monomorph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7% are found in a heterozygous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hromosomal polymorphism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changes in the structure of chromosomes th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 not have pathological consequences for the carrier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changes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the centromere re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of the Y chromos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and presence of satellites on acrocentric chromos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ile sites (exception is fragile X syndro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mosome inversions (according to some autho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893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Hardy-Weinberg rule is the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oundation of population genetic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4000" y="24681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mathematician Har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rman physician Weinberg (190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opulation there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 allele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q allele 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ly in individuals of both se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Frequencies of gene alleles and genotypes in the population</a:t>
            </a:r>
            <a:endParaRPr b="0" lang="en-US" sz="38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17" name="Picture 35" descr="Image result for hardy weinberg images"/>
          <p:cNvPicPr/>
          <p:nvPr/>
        </p:nvPicPr>
        <p:blipFill>
          <a:blip r:embed="rId1"/>
          <a:stretch/>
        </p:blipFill>
        <p:spPr>
          <a:xfrm>
            <a:off x="2195640" y="1844640"/>
            <a:ext cx="4968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64072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800" spc="-1" strike="noStrike" u="sng">
                <a:solidFill>
                  <a:srgbClr val="ff0000"/>
                </a:solidFill>
                <a:uFillTx/>
                <a:latin typeface="Arial"/>
              </a:rPr>
              <a:t>Hardy-Weinberg rule</a:t>
            </a:r>
            <a:endParaRPr b="0" lang="en-US" sz="3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50920" y="1773000"/>
            <a:ext cx="864216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sr-RS" sz="2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(АА)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2pq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Aa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sr-Latn-CS" sz="2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sr-RS" sz="2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aa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 (100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р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opulation maintains its genetic structure (equilibrium) when transitioning from one generation to anothe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requency of genotypes in the offspring generation depends on the frequency of gene alleles in the parental gener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Image result for hardy weinberg images"/>
          <p:cNvPicPr/>
          <p:nvPr/>
        </p:nvPicPr>
        <p:blipFill>
          <a:blip r:embed="rId1"/>
          <a:stretch/>
        </p:blipFill>
        <p:spPr>
          <a:xfrm>
            <a:off x="6659640" y="260280"/>
            <a:ext cx="16412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frequency of heterozygotes (2pq) in the population at equilibrium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920" y="2060280"/>
            <a:ext cx="446544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ximum is 0.5 or 5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be greater than the frequency of one homozygote, but it is never greater than the sum of homozygotes (2pq ≤ p^2 + q^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ximum is when the frequency of allele A (p) is equal to the frequency of allele a (q) (p=q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Image result for hardy weinberg images"/>
          <p:cNvPicPr/>
          <p:nvPr/>
        </p:nvPicPr>
        <p:blipFill>
          <a:blip r:embed="rId1"/>
          <a:stretch/>
        </p:blipFill>
        <p:spPr>
          <a:xfrm>
            <a:off x="5148360" y="2276640"/>
            <a:ext cx="39146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order for the population to maintain its genetic structure (equilibrium)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95280" y="2492280"/>
            <a:ext cx="822960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llowing conditions need to be satisfied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is no mig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opulation remains in panmix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no mut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Panmixia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iffers from random m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mating is the probability that an individual of one sex has a chance of being fertilized by an individual of the other sex in which the observed trait is expressed in the same 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anmixia, in addition to random mating, it is necessary th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Each type of crossbreeding produces the same number of offsp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The sex ratio in the population is 1: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The population is infinitely lar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re are two types of deviations from random mating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sr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Assortative mating of geno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Positive (inbreeding) 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re frequent mating of individuals who are more closely related than the average pair of individuals in that popu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Negative (outbreeding) 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re frequent mating of individuals who are less closely related than the average pair of individuals in that popu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Assortative mating of pheno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Positive 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re frequent mating of individuals in which the observed trait is expressed in a similar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Negative 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re frequent mating of individuals in which the observed trait is expressed in different way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the population consistently maintained its genetic structure, there would be no evolution.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3320" y="2637000"/>
            <a:ext cx="8640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Arial"/>
              </a:rPr>
              <a:t>Evolutionary factors -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tors that disrupt the genetic structure of a population ar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     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stematic and non-systematic fact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Arial"/>
              </a:rPr>
              <a:t>Selection -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stemati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Arial"/>
              </a:rPr>
              <a:t>Mutations, migrations, genetic drift -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n-systematic evolutionary fact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POPULATION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population is a group of individuals of the same species that inhabit a specific habitat at a specific time and can engage in reproductive inter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Natural selection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 the favoritism or elimination of genes or genotypes due to differential fertility or differential survival of individu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ve reproductive capacity of individuals - 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adaptive value (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gree of reduction in relative reproductive capacity is the 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selection coefficient (S</a:t>
            </a:r>
            <a:r>
              <a:rPr b="0" lang="sr-Latn-CS" sz="2400" spc="-1" strike="noStrike">
                <a:solidFill>
                  <a:srgbClr val="04617b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cc0099"/>
                </a:solidFill>
                <a:latin typeface="Arial"/>
              </a:rPr>
              <a:t>W+S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ection of harmful dominant gene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94920" y="206028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ecause it acts on both homozygotes and heterozygotes simultaneous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mful dominant gene can b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completely penetrant, preventing reproduction of all carri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it will be eliminated in that gen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partially penetrant, preventing reproduction of some individuals (partial selectio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ontinuously maintained in the popu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ection of harmful recessive gene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9528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t acts only on recessive homozyg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ifferentiate betwe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Selection against homozygotes in favor of heterozygo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Selection against heterozygotes in favor of homozyg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lection against homozygotes in favor of heterozygotes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Sickle cell anemia, thalassemia, G6PD de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kle cell an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- HbS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-H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s-HbA and HbS (has a selective advantage in malaria-endemic region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ection against heterozygotes in favor of homozygote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24000" y="2565000"/>
            <a:ext cx="8712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xample: Rh fact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     Dd x d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1   Dd, Dd, dd, d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In the body of Rh-negative mothers, Rh-negative fetuses have a natural selective advantag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igration, immigration, and emigration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ensure gene fl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the change in genetic structure depends on the extent of gene flow and the genetic differences between two popul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exchanging genes, populations become more similar in their genetic struc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way for new genes to appear in the popu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Mutations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3640" y="2060280"/>
            <a:ext cx="84452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erm mutations are passed on to offspring from generation to gene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5-20% of conceived zygotes end up as spontaneous abor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0% of spontaneous abortions occur due to chromosomal aber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Genetic drift - genetic randomnes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8360" y="263700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 in the frequency of gene alleles in a population can also be a result of chanc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can occur in two way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Arial"/>
              </a:rPr>
              <a:t>By creating isolat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Arial"/>
              </a:rPr>
              <a:t>By losing a low-frequency gene allele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in oogenesis, a low-frequency allele is randomly distributed in a oocyte and is lost from the popul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man populations - inhabitants of a village, a city, a street...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95280" y="1915920"/>
            <a:ext cx="80661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pecies is divided into a large number of natural populations, and the largest population groups are 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human races (Negroids, Caucasoids, and Mongoloid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race is a group of historically related people with a common gene po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t includes a smaller or larger number of local popul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 has been assumed that races arose solely due to geographical isolation, and that other factors have influenced them - selection, genetic drift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736560" y="546120"/>
            <a:ext cx="8305920" cy="8380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71280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457200" indent="-457200" algn="just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olymorph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nstantly mo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ntinuously interacting with environmental f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5" descr="Chart of Human Population Growth by Region - The Global Education Project"/>
          <p:cNvPicPr/>
          <p:nvPr/>
        </p:nvPicPr>
        <p:blipFill>
          <a:blip r:embed="rId2"/>
          <a:stretch/>
        </p:blipFill>
        <p:spPr>
          <a:xfrm>
            <a:off x="2087640" y="3429000"/>
            <a:ext cx="550872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tic structure of the population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2205000"/>
            <a:ext cx="91440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nge in the genetic structure of the population is a result of adaptation to new environmental condi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hanges are studied over time, it's called evolutionary population gene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hanges are studied in terms of space, it's called ecological population gene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Genetic burdens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burdens represent mutations, most commonly recessive ones, that decrease the relative reproductive capacity of individu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e of the most well-known genetic burdens is inbree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here are two approaches: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78920" y="1935000"/>
            <a:ext cx="87138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rou (1958)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burdens are the degree of reduction in the adaptive value of the average genotype compared to the best genoty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obzhansky (1964)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s whose adaptive value is below the established average for heterozygotes represent carriers of genetic burde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tic burdens also exist in humans.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8360" y="2743200"/>
            <a:ext cx="792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ton, Krou, Miller (1956) - based on data on stillborn children calcul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lethal equival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mounts to 2 for gametes, or 4 for zygo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hal equivalent - the presence of one lethal mutation or a group of partially lethal mut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echanism of occurrence of genetic burden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lassical theory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ou and Kim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Mutation theo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gene loci are in the homozygous st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Genetic burdens are eliminated from populations by mut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Lethal mutations decrease the viability of heterozygo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3-5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New mutations lead to the occurrence of genetic burd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alanced theory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5000"/>
            <a:ext cx="822960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gene loci in the population are in the heterozygous st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mphasis is placed on balanced sel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utations are recessive and in the heterozygous state they form combin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breeding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2400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s in close kinship have a greater number of identical ge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efficient of inbreeding is calculated by the formul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=(1/2)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- degree of kinship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probability that certain genes will be found in a homozygous state, which originate from a common ances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riage within kinship - 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consangui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1136160"/>
            <a:ext cx="54882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9280" y="1484280"/>
            <a:ext cx="826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breeding reduces the relative reproductive capacity of individu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win's experiment (1876) - for 8 generations, the number of offspring decreased by 3 ti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ats - % of sterile crosses 41%, litter size decreased from 7 to 3 offspring, mortality up to 4 weeks 45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arriages within kinship, there is a 40% increased stillbirth rate of children, and the number of children with hereditary malformations is 30% hig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riage within kinship among first cousin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84000" y="2708280"/>
            <a:ext cx="792612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ton and colleagues (1956) f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nital defects are more common by about 4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births by about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onatal mortality by about 3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tality before adulthood is 100% hig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ient Greeks, Egyptians, and J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tholic Church and laws in some countries allow marriage up to the fourth degree of kin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law allows marriage up to the sixth degree of kin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tial isolation may be a reason for increased frequency of marriages within kin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etic structure of the population consists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ative traits of individuals in the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ative traits of individuals in the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chemical characteristics of individuals in the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osomal polymorph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e1ea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gree of kinshi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tion of shared gen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ability of homozygosit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-degree relativ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nts-childr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bling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zygotic twi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-degree relativ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nts, uncl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phews, niec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f-sibling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-degree relativ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cousi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ren of aunts and uncl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68360" y="184464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Determining the frequency of gene allel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82000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termining the allele frequency i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monogenically determined trait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8920" y="2421000"/>
            <a:ext cx="86979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the Hardy-Weinberg equ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sr-Latn-C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(AA) + 2pq (Aa) + q</a:t>
            </a:r>
            <a:r>
              <a:rPr b="1" lang="sr-Latn-C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(aa</a:t>
            </a:r>
            <a:r>
              <a:rPr b="1" lang="sr-CS" sz="2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 1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10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p + q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 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rmining the frequency of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dominant allele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565760" cy="8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f the MN blood group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contains 3 blood grou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73080" y="2997360"/>
          <a:ext cx="9070920" cy="3247920"/>
        </p:xfrm>
        <a:graphic>
          <a:graphicData uri="http://schemas.openxmlformats.org/drawingml/2006/table">
            <a:tbl>
              <a:tblPr/>
              <a:tblGrid>
                <a:gridCol w="2266920"/>
                <a:gridCol w="1643040"/>
                <a:gridCol w="1630440"/>
                <a:gridCol w="1631880"/>
                <a:gridCol w="1898640"/>
              </a:tblGrid>
              <a:tr h="922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henotype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Genotype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 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sr-Latn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 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individual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Rectangle 4"/>
          <p:cNvSpPr/>
          <p:nvPr/>
        </p:nvSpPr>
        <p:spPr>
          <a:xfrm>
            <a:off x="2556000" y="6237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+ B + C = 1 (100%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equency of codominant alleles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79280" y="1600200"/>
            <a:ext cx="896472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0" lang="sr-CS" sz="3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A +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 number of individuals with M blood type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umber of individuals with MN blood type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umber of individuals with N blood type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C + B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um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1568520" y="25178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7"/>
          <p:cNvSpPr/>
          <p:nvPr/>
        </p:nvSpPr>
        <p:spPr>
          <a:xfrm>
            <a:off x="1531800" y="4237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250920" y="1773360"/>
            <a:ext cx="3240000" cy="13683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214200" y="3262320"/>
            <a:ext cx="3313080" cy="15843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549360"/>
            <a:ext cx="868680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rmining the frequency of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ultiple allele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ABO blood group syste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of A allele (IA) = 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of B allele (IB) =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of O allele (IO) = 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p + q  + r = 1 (10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5200" y="54900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one population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78920" y="2492280"/>
            <a:ext cx="8425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А + АО +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B + BO + AB +OO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0%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A        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B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AB  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O 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heno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pr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q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2p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32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 (10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507960" y="203688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blood group A (IAIA or IAIO): </a:t>
            </a: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p^2 + 2p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blood group B (IBIB or IBIO): </a:t>
            </a: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q^2 + 2q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blood group AB (IAIB): </a:t>
            </a: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2p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blood group O (IOIO): </a:t>
            </a: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r^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9760" y="549000"/>
            <a:ext cx="848988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requencies of multiple allele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r, p, q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15880" y="1915920"/>
            <a:ext cx="82296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= √ 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= 1- √ B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= 1- √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1692360" y="1916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5"/>
          <p:cNvSpPr/>
          <p:nvPr/>
        </p:nvSpPr>
        <p:spPr>
          <a:xfrm>
            <a:off x="2035080" y="198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6"/>
          <p:cNvSpPr/>
          <p:nvPr/>
        </p:nvSpPr>
        <p:spPr>
          <a:xfrm>
            <a:off x="3716280" y="3573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7"/>
          <p:cNvSpPr/>
          <p:nvPr/>
        </p:nvSpPr>
        <p:spPr>
          <a:xfrm>
            <a:off x="2763720" y="3573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8"/>
          <p:cNvSpPr/>
          <p:nvPr/>
        </p:nvSpPr>
        <p:spPr>
          <a:xfrm>
            <a:off x="3817800" y="5084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9"/>
          <p:cNvSpPr/>
          <p:nvPr/>
        </p:nvSpPr>
        <p:spPr>
          <a:xfrm>
            <a:off x="2809800" y="506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0"/>
          <p:cNvSpPr/>
          <p:nvPr/>
        </p:nvSpPr>
        <p:spPr>
          <a:xfrm>
            <a:off x="2492280" y="3500280"/>
            <a:ext cx="213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1"/>
          <p:cNvSpPr/>
          <p:nvPr/>
        </p:nvSpPr>
        <p:spPr>
          <a:xfrm>
            <a:off x="2606760" y="49276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748720" cy="118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Quantitative properties -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an be represented on a quantitative scale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genic traits are determ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expression is influenced by environmental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vary widely, so overlapping in expression is observed (</a:t>
            </a: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there is no alternative tra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, weight, cholesterol level, blood pressure, skin color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ative traits achieve </a:t>
            </a: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a cumulative ef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Skin color - AAbb: darkest black, aabb: lightest white, AaBB, AABb: black, AaBb: mulatto, Aabb, aaBb: wh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Qualitative properties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genic traits are determ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expression is not influenced by environmental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vary in ex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MN, ABO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000" spc="-1" strike="noStrike" u="sng">
                <a:solidFill>
                  <a:srgbClr val="000000"/>
                </a:solidFill>
                <a:uFillTx/>
                <a:latin typeface="Arial"/>
              </a:rPr>
              <a:t>ABO system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18840" y="2124000"/>
            <a:ext cx="3917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our count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A-4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-3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-16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B-7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87560" y="2124000"/>
            <a:ext cx="3917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In Europ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0000ff"/>
                </a:solidFill>
                <a:latin typeface="Arial Narrow"/>
              </a:rPr>
              <a:t>А </a:t>
            </a:r>
            <a:r>
              <a:rPr b="1" i="1" lang="en-US" sz="2800" spc="-1" strike="noStrike">
                <a:solidFill>
                  <a:srgbClr val="0000ff"/>
                </a:solidFill>
                <a:latin typeface="Arial Narrow"/>
              </a:rPr>
              <a:t>blood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bia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-4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ance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-30-3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ngland-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25-3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otland-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 20-2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celand-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15-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21520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Frequency of genetic allels also varies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lbin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ibbean Islands - 8.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ego-Congo Tribe - 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wegians and Americans - 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bians - 0.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ss - 0.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che - 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29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P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ralian Aborigines - 7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kimos - 5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es - 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bians - 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ns - 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nesians and Africans - 2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ese - 1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ns from Brazil - 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33:24Z</dcterms:created>
  <dc:creator>User</dc:creator>
  <dc:description/>
  <dc:language>en-US</dc:language>
  <cp:lastModifiedBy>Microsoft Office User</cp:lastModifiedBy>
  <dcterms:modified xsi:type="dcterms:W3CDTF">2025-02-05T11:22:00Z</dcterms:modified>
  <cp:revision>197</cp:revision>
  <dc:subject/>
  <dc:title>MUTACIJE GENA</dc:title>
</cp:coreProperties>
</file>